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7D6-AB23-4622-B355-F15DAA15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419-A896-475B-8D53-7F175B77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416-A54B-434D-81AA-409C25CC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B4A-EA8D-4DCF-B4A3-2C1F8140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781-285B-499D-B61D-53DD76E6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8D2-4FFA-477B-AF79-D54A6F82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123-3CA8-4B66-803C-8AAEAB3D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5A8-0B38-42A4-ACC4-ABF74295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836-F910-49BA-A623-10870419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F2A-531A-417F-9725-C6F5F9F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408-6C63-4995-8C54-2A2A4E4B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7EE-50BA-487B-BEF7-18767FDE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227D-5C67-4933-B3AB-99F1FA441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549360"/>
            <a:ext cx="74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ьбом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олезные исключения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920" y="3500280"/>
            <a:ext cx="52200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риа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жшкольного проек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русскому язык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115920"/>
            <a:ext cx="7067880" cy="9223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Карта проек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1150920"/>
          <a:ext cx="8229600" cy="5707080"/>
        </p:xfrm>
        <a:graphic>
          <a:graphicData uri="http://schemas.openxmlformats.org/drawingml/2006/table">
            <a:tbl>
              <a:tblPr/>
              <a:tblGrid>
                <a:gridCol w="3024360"/>
                <a:gridCol w="5205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звание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«Исключительно полезные исключ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час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чащиеся 10-11 кл. МШ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роки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Январь – декабрь 2011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ип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актико-ориентиров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онопредмет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Групп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Этапы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Информационная кампания (размещение информации о проекте на странице МШД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Сбор и систематизация материала по тем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Оформление сборника «Полезные исключ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Презентация и защита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Цель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овершенствование ведущих языковых компетенций учащихся путем  систематизации материала по теме проекта и оформления сборника  «Полезные исключени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сновополагающ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Какие исключения существуют в русской орфографи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Как и в связи с чем они появились в язык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ожно ли создать универсальное пособие исключе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Существуют ли алгоритмы для запоминания исключе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вый продукт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борник «Полезные исключ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зентация в Power Poi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413000"/>
            <a:ext cx="33908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писание И-Ы после Ц в корне сл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1413000"/>
            <a:ext cx="339120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склю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уть, 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н, 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637000"/>
            <a:ext cx="7488000" cy="228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исание ЦИ в корне – историческое явление. Слова с таким буквосочетанием являются обычно иноязычными. После Ц пишется И в соответствии с мягким или полумягким произношением тех звуков, которые передаются в русском языке буквой Ц, например: цивилизация из лат. сivilis, цитата – лат. citatum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усском же языке буква Ц передает твердый звук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ле которого может произноситься только [ы], но не [и]. Поскольку заимствованных слов с ЦИ в корне подавляющее большинство, то русские слова с ЦЫ в корне (цыган, на цыпочках, цыпленок, цыкнуть, цыц) попали в исключ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усской орфографи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ключениями стали собственно русские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5229360"/>
            <a:ext cx="5688000" cy="1419120"/>
          </a:xfrm>
          <a:custGeom>
            <a:avLst/>
            <a:gdLst>
              <a:gd name="textAreaLeft" fmla="*/ 167040 w 5688000"/>
              <a:gd name="textAreaRight" fmla="*/ 5520960 w 5688000"/>
              <a:gd name="textAreaTop" fmla="*/ 167040 h 1419120"/>
              <a:gd name="textAreaBottom" fmla="*/ 1252080 h 1419120"/>
            </a:gdLst>
            <a:ahLst/>
            <a:rect l="textAreaLeft" t="textAreaTop" r="textAreaRight" b="textAreaBottom"/>
            <a:pathLst>
              <a:path w="8655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959" y="21600"/>
                </a:lnTo>
                <a:arcTo wR="3600" hR="3600" stAng="10800000" swAng="5400000"/>
                <a:lnTo>
                  <a:pt x="8655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Запомин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ыган встал на цыпочки и цыкнул на цыпл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413000"/>
            <a:ext cx="3390840" cy="201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писание О-Ё в окончаниях существительных после шипящ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860640"/>
            <a:ext cx="7416720" cy="2593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ы Орфографической комиссии, готовившие Свод, обратили внимание на то, что форм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льичё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Лениным), как правило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алась с Ё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частности, такое написание встретилось в одном из писем Н. К. Крупской). Чтобы сохранить орфографическую неприкосновенность В. И. Ленина, было принято "устное" исключение: писать, например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тром Ильич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 (Чайковским), Михаилом Ильич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 (Роммом), но Владимиром Ильич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 (Ленины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1916280"/>
            <a:ext cx="3168720" cy="1465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«Негласное» исклю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имиром Ильич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 Лени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51640" y="1844640"/>
            <a:ext cx="1513080" cy="1513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413000"/>
            <a:ext cx="3390840" cy="1465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сутствие мягкого зн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шипящих в нареч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7240" y="1413000"/>
            <a:ext cx="1704960" cy="1465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склю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ж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муж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втерпеж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068640"/>
            <a:ext cx="6119640" cy="1923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 наречия произошли от существительны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ж, терпеж, му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торые относятся к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ому склонению и пишутся без мягкого зн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77080" y="2781360"/>
            <a:ext cx="1612800" cy="230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5229360"/>
            <a:ext cx="6048360" cy="1465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Это интерес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еч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еж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зовано от предлог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существительного второго склон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стар.) – «крюк, столб», однако это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тало исключением и пишется с мягким зна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773360"/>
            <a:ext cx="33908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писание И,У,А  после шипя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773360"/>
            <a:ext cx="33908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склю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, ПАРА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, БРОШ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213000"/>
            <a:ext cx="7488000" cy="2837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три слова: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юри, брошюра, парашют,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я транслитерационному принципу, пишутся через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В написании этих слов отражено их французское произношение и написание: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юри – jury, брошюра – brochure, парашют – parachute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Если бы эти слова были еще в древнерусском языке, то их написание целиком и полностью отражало бы традиционный принцип русской орфографии, так как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, 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были мягкими. Но эти слова пришли к нам в XIX веке, когда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, 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уже отвердели, а потому стали исключениями из прави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341360"/>
            <a:ext cx="33908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писание Н и НН в суффиксах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1341360"/>
            <a:ext cx="3390840" cy="1098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склю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ЕКЛ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ЫЙ, ОЛОВ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ЫЙ, ДЕРЕВ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ТР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2637000"/>
            <a:ext cx="6481800" cy="4018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начально, в древний период все отыменные прилагательные образовывались с помощью суффиксов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-ан- – -ян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но при этом получали различное ударение. И уже от этих суффиксальных прилагательных могли возникнуть новые формы с дополнительным суффиксом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-ьн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 По этому правилу слова писались так: </a:t>
            </a: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дерев-ян-ьн-ный, олов-ян-ьн-ный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Но в связи с исчезновением сверхкраткого звука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ударение перешло на предшествующий слог и здесь закрепилось, возникли новые слова </a:t>
            </a: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деревянный, оловянный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прилагательное </a:t>
            </a: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стеклянный,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в старое ударение на суффиксе, одновременно с этим оставило и «усиленное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 – и попало в разряд исключений. Это слово, даже получая суффикс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-ьн-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никогда не переносило ударение на корень, потому что и корень у него состоял из сверхкраткого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ъ: стькльнъ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– все слово состояло из одних сверхкратких гласных. После утраты слабых сверхкратких слово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ькльнъ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дало форму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клен,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торая настолько сложна для произношения, что не сохранилась в русском язы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слова-исключения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тре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прозрачно. В древнерусском языке оно относилось к отглагольным прилагательным, образованным от глагола несовершенного вид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трить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и писалось с одним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,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как только добавлялась приставка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безветренный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слово писалось с двумя буквами – 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н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Сегодня слово </a:t>
            </a: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ветре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перешло в прилагательные, однако сохранило свое старое напис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3141720"/>
            <a:ext cx="2160720" cy="25923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Запомин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кно стекля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амы деревяН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учки оловя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лезные исключ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341360"/>
            <a:ext cx="33908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Орфограм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писание Ь на конце глаголов повелительного накло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1557360"/>
            <a:ext cx="3390840" cy="611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склю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Я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2637000"/>
            <a:ext cx="6481800" cy="3991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овременном русском языке во втором лице единственного числа формы повелительного наклонения могут быть трех вид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с конечным мягким согласным: 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будь, тронь, брос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с ударным конечным 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и: 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ходи, пои, кро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с конечным 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после гласного: 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думай, знай, читай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им образом, формы повелительного наклонения образуются от чистой основы настоящего и будущего простого времени с чередованием твердого согласного с мягким и от чистой основы плюс суффикс 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и-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форма 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ляг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стала исключением благодаря своей твердой согласной на конце. В этом случае звуковая материя оказывает сопротивление графической форме. Поставленный мягкий знак вызывает при чтении этой формы восприятие сочетания знаков </a:t>
            </a:r>
            <a:r>
              <a:rPr b="1" i="1" lang="ru-RU" sz="1400" spc="-1" strike="noStrike">
                <a:solidFill>
                  <a:srgbClr val="ff0066"/>
                </a:solidFill>
                <a:latin typeface="Arial"/>
              </a:rPr>
              <a:t>г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 Между тем мягкие заднеязычные, как правило, не могут стоять в конце слов: в норме они так не употребляются. Иными словами, сюда «вмешивается» и произносительная норма русского языка – и слово произносится в соответствии с этой нор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58920" y="404640"/>
            <a:ext cx="6265800" cy="79236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413000"/>
            <a:ext cx="838332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ылинский К.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правочник по орфографии и пунктуации для работников печати / К.И. Былинский, Н.Н. Никольский. М.: Искусство, 195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аник  Г.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креты орфографии / Г.Г. Граник, С.М. Бондаренко, Л.А. Концевая. М.: Просвещение, 199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ванов  В.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сторический комментарий к занятиям по русскому языку в средней школе. Пособие для учителя / В.В. Иванов, З.А. Потиха. М.: Просвещение, 198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ванова В.Ф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временный русский язык. Графика и орфография / В.Ф. Иванова. М.: Просвещение, 196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ванова  В.Ф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нципы русской орфографии / В.Ф. Иванова. Л.: Изд. университета, 197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лесов  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теклянный, оловянный, деревянный / В.Колесов // Русская речь. 1974. № 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узьмина  С.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еория русской орфографии / С.М. Кузьмина. М.: Наука, 198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ов  М.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нимательная орфография / М.В. Панов. М.: Просвещение, 198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нина  И.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учение трудных слов с применением этимологического анализа / И.В. Пронина. М.: Просвещение, 196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озенталь  Д.Э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опросы русского правописания. Практическое руководство / Д.Э. Розенталь. МГУ, 196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Шанский  Н.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раткий этимологический словарь русского языка / Н.М. Шанский, В.В. Иванов, Т.В. Шанская. М.: Просвещение, 197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Щерба  Л.В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еория русского письма / Л.В. Щерба. Л.: Наука, 198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нтернет-ресур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rus.1september.ru/articlef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uicbs.ru/index.php?op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omnupi.ru/index/russk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8:00:59Z</dcterms:created>
  <dc:creator>Admin</dc:creator>
  <dc:description/>
  <dc:language>en-US</dc:language>
  <cp:lastModifiedBy>Admin</cp:lastModifiedBy>
  <dcterms:modified xsi:type="dcterms:W3CDTF">2013-02-01T08:12:14Z</dcterms:modified>
  <cp:revision>61</cp:revision>
  <dc:subject/>
  <dc:title>Слайд 1</dc:title>
</cp:coreProperties>
</file>